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0355E-DB97-40C2-BB86-D2D5AC950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99B7E-671C-46A6-AD22-089B77D3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66601-3381-463E-998C-124372E97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EEDE0-8A3E-4BC7-836E-86B4D5FDB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3DF81-6D59-4347-BCA8-B0EBD46D6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1FE2F-5C89-48C3-8696-DA210DCC7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FE3A4-08D0-4F24-B302-30D71E1C0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4FEFE-794C-4EEA-9CD8-B3152BA3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0F304-D6AE-45AA-98E7-B357BE5E4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4730D-60B5-4711-A108-E8717126E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9BA9C-C6EC-49F0-81E0-ED780763E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8E812-D5AD-4DF9-887F-70B17C4D8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2E675-E570-4B6C-B10C-EC567CB6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C45FD-6DA4-4AEC-A530-AB2574607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06D0C-11AA-438A-9574-4B110A120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7F1A5-59A0-4319-B6A7-936643EF3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AF691-05CE-4F91-9327-1D48946D3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AAF1-78B1-472C-A077-18CB152E3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ACA6-EE5A-4FC3-A266-88EFC1FC5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6693-4FEE-452F-A67E-40E0884F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5A25-F7BE-45BF-9E7D-8020DF32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1BD70-73DA-4D81-B58C-7D466E73B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FA96-4E93-40A7-BDD9-0F8203CF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0D52-B2BA-451A-92F3-C3A771341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B50D-BEEA-4ADA-8278-E75C6B8AB3E8}"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582F-0BA5-4221-A27F-0D19DE766939}"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uava</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uava genus species</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lants of the Myrtle Family</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us </a:t>
            </a:r>
            <a:r>
              <a:rPr b="0" i="1" lang="en-US" sz="2000" spc="-1" strike="noStrike">
                <a:solidFill>
                  <a:srgbClr val="ffffcc"/>
                </a:solidFill>
                <a:latin typeface="Arial"/>
              </a:rPr>
              <a:t>Psidium</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ontains about 100 species of tropical shrubs and small trees.</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st commonly eaten Guava is the Apple Guava </a:t>
            </a:r>
            <a:r>
              <a:rPr b="0" i="1" lang="en-US" sz="2000" spc="-1" strike="noStrike">
                <a:solidFill>
                  <a:srgbClr val="ffffcc"/>
                </a:solidFill>
                <a:latin typeface="Arial"/>
              </a:rPr>
              <a:t>Psidium guajava.</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ther types commonly eaten types include the Strawberry Guavas- Psidium lucidum and the Pineapple Guavas- Feijoa sellowiana </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eography of Cultivation. </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rigin is not completely known but though to be “an area extending from southern Mexico into or through Central America.” Places this include are Peru where seeds of it were found at many archaeological sites.</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in produces of the fruit are now are now Brazil and Hawaii, with other produces in California, Florida and Mexico.</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rphological description.</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ruit itself comes in a variety of shapes, sizes, colors, textures, and taste qualiti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pple Guava is pear to grapefruit shaped with a whiteish inter-fleshy part.</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uava fruit and flower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pic>
        <p:nvPicPr>
          <p:cNvPr id="98" name="Plate50" descr=""/>
          <p:cNvPicPr/>
          <p:nvPr/>
        </p:nvPicPr>
        <p:blipFill>
          <a:blip r:embed="rId2"/>
          <a:stretch/>
        </p:blipFill>
        <p:spPr>
          <a:xfrm>
            <a:off x="4421160" y="2133720"/>
            <a:ext cx="3746520" cy="3809880"/>
          </a:xfrm>
          <a:prstGeom prst="rect">
            <a:avLst/>
          </a:prstGeom>
          <a:ln w="0">
            <a:noFill/>
          </a:ln>
        </p:spPr>
      </p:pic>
      <p:pic>
        <p:nvPicPr>
          <p:cNvPr id="99" name="images" descr=""/>
          <p:cNvPicPr/>
          <p:nvPr/>
        </p:nvPicPr>
        <p:blipFill>
          <a:blip r:embed="rId3"/>
          <a:stretch/>
        </p:blipFill>
        <p:spPr>
          <a:xfrm>
            <a:off x="4572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ultivation features.</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own in tropical and sub-tropical climat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rees need full sun exposure.</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rives in a warm, humid condition but can withstand to dry to a degree.</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y live in nearly any type of soil but Loam and Alluvial are best for it.</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eds some type of frost protection for colder areas, tree will die at temperatures below 26 degrees F. (-3 C)</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mon Guava uses.</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commonly eaten as a whole, or sliced up especially in many Latin American dishe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ther uses include turning the Guava into jelly or added to ice cream, cakes, and pies.</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dicinal use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ry good source of vitamin A and C</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ea made from the leaves and/or bark have been used by many tribes for diarrhea and dysentery and other tribes employ it for stomach upsets, vertigo and to regulate menstrual period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t has also been determined to be effective treatment for gastrointestinal disorder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some anti-hyperglycemic qualiti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pic>
        <p:nvPicPr>
          <p:cNvPr id="108" name="guava" descr=""/>
          <p:cNvPicPr/>
          <p:nvPr/>
        </p:nvPicPr>
        <p:blipFill>
          <a:blip r:embed="rId2"/>
          <a:stretch/>
        </p:blipFill>
        <p:spPr>
          <a:xfrm>
            <a:off x="2819520" y="1143000"/>
            <a:ext cx="308592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01:58:49Z</dcterms:created>
  <dc:creator>Ryan Perry</dc:creator>
  <dc:description/>
  <dc:language>en-US</dc:language>
  <cp:lastModifiedBy>Ryan Perry</cp:lastModifiedBy>
  <dcterms:modified xsi:type="dcterms:W3CDTF">2013-03-27T03:38:17Z</dcterms:modified>
  <cp:revision>1</cp:revision>
  <dc:subject/>
  <dc:title>Guava</dc:title>
</cp:coreProperties>
</file>